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B17C-1550-4806-A146-42DE63208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4C3F-4AD8-4DA2-8CFB-F55B04771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EC15-DA9A-4AC9-ACE9-42C14B2F1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3A4C-6E7C-434E-8C8D-150A95F4F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195C-4FB5-4037-AF24-62FB0F01A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E1FC-EEE1-47C4-8DDD-F578753A6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D37B-6922-44A7-92B7-2EC5B2EEC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A2BD-FBEA-4138-9E4F-D18988A2D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EDD3-642F-471D-9AB4-F2CFAAC9E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498C-6A74-465C-B64C-B90493791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CDFB-D9FB-4171-90DE-30B15B338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8541-5AED-4278-B122-793BDA12D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492A-8334-4AA9-9377-E52640D111C7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:45 – 5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ch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is the overall meaning of a patch defini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egories of tests in a patch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erceding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cessary new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atch Definition Semant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atch definition returns true, the patch is appropriate for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priate” technically, not necessarily according to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ve, not prescrip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es pre-install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a place for post-install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local modifica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tegories of Tes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ce - Is the patch intended for software which exists on the syste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requisites - Are all pre-conditions m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pa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upgr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 set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pa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re-requisites not met, the patch may still be a good ide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licts – Are there any counter-indic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pplication confli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categories of conflic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erceding Inform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 “supercedes” or “superceded by” informa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ceded by” might be dealt with in relevance section or by reverse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d h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 / patch identifi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t possible to test whether a specific patch has been appli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Test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to identify any necessary new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Windows: MSI, .NE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platfor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ident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for target platform,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descriptions / issues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semantics cross-platfor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Matthew Wojcik</dc:creator>
  <dc:description/>
  <cp:keywords>oval developer days session 3</cp:keywords>
  <dc:language>en-US</dc:language>
  <cp:lastModifiedBy>Matthew N. Wojcik</cp:lastModifiedBy>
  <dcterms:modified xsi:type="dcterms:W3CDTF">2005-07-15T15:57:49Z</dcterms:modified>
  <cp:revision>25</cp:revision>
  <dc:subject>OVAL Developer Days 2005</dc:subject>
  <dc:title>Session 3 Presentation</dc:title>
</cp:coreProperties>
</file>