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C53E-39B8-422C-BA75-DA16E41E7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tart by looking at a high level overview of the current design of an OVAL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E2D1-422F-4230-ADB1-50D1981A6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D4F5-9EBE-4BE4-9E87-4D610404B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4BD1-2231-4429-8CD8-718231D0D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3DEF-B025-4C1E-9FD3-25F00DC53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C84E-C30A-4EB5-8C02-4B22085CA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FD7A-57B3-443D-8E31-33998239C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04F8-9613-4EA8-8145-A54725EFD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5FC0-342B-44DA-A8BE-54250442F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877A-FBA8-4ED2-8169-50A962422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0487-01F6-435C-AA67-B32C5C3DF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CD53-45E6-4C85-B1F1-9D7DC677B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0F82-9D7D-4BB8-8062-0E6C81C08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756C-04AE-4BAF-AD72-94D802F7E339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Breaking out the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parate the object section from the t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multiple tests to reuse same obje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ility to create complex object descri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ition of behavioral identifiers to guide the coll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Desig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7467840" cy="45720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600200"/>
            <a:ext cx="662940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657600"/>
            <a:ext cx="6629400" cy="1905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886200"/>
            <a:ext cx="6172200" cy="60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724280"/>
            <a:ext cx="6172200" cy="6098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0968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352680"/>
            <a:ext cx="746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41972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96252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80060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dec1"/>
                                      </p:to>
                                    </p:animClr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06667 E">
                                      <p:cBhvr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-3.33333E-006 -0.06667 E">
                                      <p:cBhvr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0000" y="7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07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3.33333E-006 0.03333 E">
                                      <p:cBhvr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4760"/>
            <a:ext cx="7010640" cy="6248520"/>
          </a:xfrm>
          <a:prstGeom prst="rect">
            <a:avLst/>
          </a:prstGeom>
          <a:solidFill>
            <a:srgbClr val="008000">
              <a:alpha val="1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04720"/>
            <a:ext cx="6553440" cy="36576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524480"/>
            <a:ext cx="6553440" cy="14475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1492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27688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57200"/>
            <a:ext cx="76197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81160"/>
            <a:ext cx="7619760" cy="25527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114800"/>
            <a:ext cx="7619760" cy="9144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12080" y="227160"/>
            <a:ext cx="7678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r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se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d="obj_2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dministrato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n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2 track 1</cp:keywords>
  <dc:language>en-US</dc:language>
  <cp:lastModifiedBy>Andrew Buttner</cp:lastModifiedBy>
  <dcterms:modified xsi:type="dcterms:W3CDTF">2005-07-25T18:16:22Z</dcterms:modified>
  <cp:revision>17</cp:revision>
  <dc:subject>OVAL Developer Days 2005</dc:subject>
  <dc:title>Session 2 - Track 1 Presentation</dc:title>
</cp:coreProperties>
</file>