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16E8-1F65-4CFD-8653-46A401FBF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6BB0-7A4E-46BD-B085-84A4EC8F2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29F1B-FDAE-4CEF-8114-8BDAE7BC0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275FF-1CAE-4BDF-A94C-A11DCF2D4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CC90-80A0-4CC3-9BC9-30E823883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B4B5-DB41-4DA4-8D43-7D2AAB8A5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AA5C9-F03A-4FD3-AB4D-CC8FAC108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0149-5FEF-4964-894D-ADF4A9588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4D53-5D97-486B-91CE-75EBBAAA6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2FCC-41B6-4CC8-9458-09F202883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1B075-DBED-43A3-8CBF-ECD45B029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49F6-6B1A-495B-B8CA-F47342748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CBA6-76E6-476B-9DC7-1D0F708E0572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0:30 - 12:00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CK 1  -  OVAL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place existing component typ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low the output of one test to be used by an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eraction with other langu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10640" y="1219320"/>
            <a:ext cx="685584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ar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gnor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lo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78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ly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2438280"/>
            <a:ext cx="1600200" cy="381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276720" y="2819520"/>
            <a:ext cx="1676160" cy="7617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11720" y="609480"/>
            <a:ext cx="71301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ar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r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nca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mpone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r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_fiel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ilename.dll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13360" y="4251240"/>
            <a:ext cx="1752480" cy="304920"/>
          </a:xfrm>
          <a:prstGeom prst="rect">
            <a:avLst/>
          </a:prstGeom>
          <a:solidFill>
            <a:srgbClr val="00660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4572000"/>
            <a:ext cx="160020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428640" y="2819520"/>
            <a:ext cx="228600" cy="17524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0000" y="4595760"/>
            <a:ext cx="1752480" cy="304920"/>
          </a:xfrm>
          <a:prstGeom prst="rect">
            <a:avLst/>
          </a:prstGeom>
          <a:solidFill>
            <a:srgbClr val="00660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different op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696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gnor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lo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78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nca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mpone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r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_fiel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ilename.dll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eraction with other languages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re anything XCCDF would like to see in a new version of OVA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item that could be useful when interacting with existing proprietary information stor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1676520"/>
            <a:ext cx="82296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Courier New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rganization_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ilename.dll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aj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5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aj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in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in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bui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60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bui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34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rganization_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ckup - variable file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8:04:05Z</dcterms:created>
  <dc:creator>Andrew Buttner</dc:creator>
  <dc:description/>
  <cp:keywords>oval developer days session 5 track 1</cp:keywords>
  <dc:language>en-US</dc:language>
  <cp:lastModifiedBy>Andrew Buttner</cp:lastModifiedBy>
  <dcterms:modified xsi:type="dcterms:W3CDTF">2005-07-16T17:07:37Z</dcterms:modified>
  <cp:revision>10</cp:revision>
  <dc:subject>OVAL Developer Days 2005</dc:subject>
  <dc:title>Session 5 - Track 1 Presentation</dc:title>
</cp:coreProperties>
</file>